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aches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ache in one form or another probably is humanity’s most frequently troublesome symptom, affecting nearly everyone at some time and inflicting recurrent discomfort on perhaps 1 person out of 10. headaches vary widely in their intensity and in the seriousness of the underlying conditions that cause them. Most headaches occur because specific pain-sensitive structures in or around the head are overstimulated or damaged. Some of these are inside the skull, or intracranial; the remainder are in the tissues surrounding or covering the skull, or extracranial. Intracranial headache results when the arterial blood vessels at the base of the brain become excessively distended or dilated by a temporarily increased blood supply that is under excessive pressur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e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i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yestr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headac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av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n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v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most headach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intracranial headac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know about the causes of extracranial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four major classes of the more commonly experienced headaches?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episodic tension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headaches have similar clinical features as episodic tension-type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igrain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drug therapies for migrain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cluster headache occu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ouns from the following word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e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v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entences using causative have or get:</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ll ..................................................(her arm/operate) yester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just.......................... (her nose/br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 (this machine/fix)</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is speech/write) at the mome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better............................................(this report/finish) as soon as possib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n.................................................(all necessary analyses/do) while they were in hospital.</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2"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headach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causes and trea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ache preven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11:11:23Z</dcterms:modified>
  <cp:revision>24</cp:revision>
  <dc:subject/>
  <dc:title>Slide 1</dc:title>
</cp:coreProperties>
</file>